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558B-4CFB-4277-BD80-EB70C4DE0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838F-34C4-4048-9A8B-33AF8C9B9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C06E-40E0-4177-ACCB-F348E2EC2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B50A-C5FF-4D36-8A51-7269D79BB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E4D3-AC4D-4BE8-8C72-F7835979E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5262-8A12-4F6E-8498-3F16DE7A9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5E39-886D-43F2-BD0E-19D26047B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314A-4A0F-4581-ACB9-9A406155C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87F3-DA98-4D1D-B15C-88F618E6C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5908-7819-4FF4-AB90-A429A5ADC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0B80-FD51-4B3D-87D9-683E70874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2A91-811A-4EDA-8B9D-4335DE46E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EE667-F091-44E3-849A-C1913780DD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roll.wav" TargetMode="External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bomb.wav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y8.com/games/Water_Balloon_Fight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joycone.com/virtualcone/default.asp" TargetMode="Externa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>
            <a:hlinkClick r:id="" action="ppaction://hlinkshowjump?jump=nextslide"/>
            <a:hlinkClick r:id="rId1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8f43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y goodbye to summer, but not to good ti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447920" y="3124080"/>
            <a:ext cx="5867280" cy="146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Summer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352680" y="1295280"/>
            <a:ext cx="266724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00cc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Last Day of</a:t>
            </a:r>
            <a:endParaRPr b="0" lang="en-US" sz="1800" spc="1" strike="noStrike">
              <a:ln w="9360">
                <a:solidFill>
                  <a:srgbClr val="ffff66"/>
                </a:solidFill>
                <a:miter/>
              </a:ln>
              <a:solidFill>
                <a:srgbClr val="00cc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>
            <a:hlinkClick r:id="" action="ppaction://hlinkshowjump?jump=nextslide"/>
            <a:hlinkClick r:id="rId1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439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R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Keep Qui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You may wear headphones if there is s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Ask if you have any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Most import of all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200400" y="4952880"/>
            <a:ext cx="30481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Have Fun!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ter Balloon Fight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Water Balloon Throw And Hit Clip Ar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752480"/>
            <a:ext cx="25272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ke an Ice Cream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Ice Cream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8120" y="2133720"/>
            <a:ext cx="2895480" cy="259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914400" y="1066680"/>
            <a:ext cx="7467480" cy="381024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236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RPRIZE!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43000" y="487692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ime to get a real ice cream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33520" y="76320"/>
            <a:ext cx="7997760" cy="67118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1600200" y="2743200"/>
            <a:ext cx="5867280" cy="142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louring page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9T22:37:10Z</dcterms:created>
  <dc:creator>Joseph O'Gorman</dc:creator>
  <dc:description/>
  <dc:language>en-US</dc:language>
  <cp:lastModifiedBy>jo'gorman</cp:lastModifiedBy>
  <dcterms:modified xsi:type="dcterms:W3CDTF">2010-09-16T22:30:55Z</dcterms:modified>
  <cp:revision>7</cp:revision>
  <dc:subject/>
  <dc:title>Last Day of</dc:title>
</cp:coreProperties>
</file>